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685800" y="1828800"/>
            <a:ext cx="5277960" cy="283680"/>
            <a:chOff x="685800" y="1828800"/>
            <a:chExt cx="5277960" cy="283680"/>
          </a:xfrm>
        </p:grpSpPr>
        <p:sp>
          <p:nvSpPr>
            <p:cNvPr id="1" name="AutoShape 8"/>
            <p:cNvSpPr/>
            <p:nvPr/>
          </p:nvSpPr>
          <p:spPr>
            <a:xfrm>
              <a:off x="685800" y="1828800"/>
              <a:ext cx="5276880" cy="282240"/>
            </a:xfrm>
            <a:prstGeom prst="roundRect">
              <a:avLst>
                <a:gd name="adj" fmla="val 55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9"/>
            <p:cNvSpPr/>
            <p:nvPr/>
          </p:nvSpPr>
          <p:spPr>
            <a:xfrm>
              <a:off x="685800" y="1828800"/>
              <a:ext cx="527688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"/>
            <p:cNvSpPr/>
            <p:nvPr/>
          </p:nvSpPr>
          <p:spPr>
            <a:xfrm>
              <a:off x="685800" y="2111040"/>
              <a:ext cx="52768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1"/>
            <p:cNvSpPr/>
            <p:nvPr/>
          </p:nvSpPr>
          <p:spPr>
            <a:xfrm>
              <a:off x="685800" y="1828800"/>
              <a:ext cx="1440" cy="28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2"/>
            <p:cNvSpPr/>
            <p:nvPr/>
          </p:nvSpPr>
          <p:spPr>
            <a:xfrm>
              <a:off x="5962680" y="1828800"/>
              <a:ext cx="1080" cy="28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13"/>
          <p:cNvSpPr/>
          <p:nvPr/>
        </p:nvSpPr>
        <p:spPr>
          <a:xfrm>
            <a:off x="380880" y="1525680"/>
            <a:ext cx="60199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4"/>
          <p:cNvSpPr/>
          <p:nvPr/>
        </p:nvSpPr>
        <p:spPr>
          <a:xfrm>
            <a:off x="380880" y="2438280"/>
            <a:ext cx="60199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15"/>
          <p:cNvSpPr/>
          <p:nvPr/>
        </p:nvSpPr>
        <p:spPr>
          <a:xfrm>
            <a:off x="5302080" y="990720"/>
            <a:ext cx="10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SERIES 5E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GR.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6"/>
          <p:cNvSpPr/>
          <p:nvPr/>
        </p:nvSpPr>
        <p:spPr>
          <a:xfrm>
            <a:off x="322920" y="2514600"/>
            <a:ext cx="1290960" cy="2772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Comic Sans MS"/>
              </a:rPr>
              <a:t>SSS Bench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7"/>
          <p:cNvSpPr/>
          <p:nvPr/>
        </p:nvSpPr>
        <p:spPr>
          <a:xfrm>
            <a:off x="1820520" y="2514600"/>
            <a:ext cx="748440" cy="2772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Comic Sans MS"/>
              </a:rPr>
              <a:t>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8"/>
          <p:cNvSpPr/>
          <p:nvPr/>
        </p:nvSpPr>
        <p:spPr>
          <a:xfrm>
            <a:off x="4776120" y="2514600"/>
            <a:ext cx="652320" cy="2772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Comic Sans MS"/>
              </a:rPr>
              <a:t>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AutoShape 19"/>
          <p:cNvSpPr/>
          <p:nvPr/>
        </p:nvSpPr>
        <p:spPr>
          <a:xfrm>
            <a:off x="5656320" y="2514600"/>
            <a:ext cx="510480" cy="277200"/>
          </a:xfrm>
          <a:prstGeom prst="roundRect">
            <a:avLst>
              <a:gd name="adj" fmla="val 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Comic Sans MS"/>
              </a:rPr>
              <a:t>#’S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AutoShape 20"/>
          <p:cNvSpPr/>
          <p:nvPr/>
        </p:nvSpPr>
        <p:spPr>
          <a:xfrm>
            <a:off x="72000" y="8914320"/>
            <a:ext cx="2665440" cy="246960"/>
          </a:xfrm>
          <a:prstGeom prst="roundRect">
            <a:avLst>
              <a:gd name="adj" fmla="val 64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ducational Development Associates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21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5479920" cy="588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685800" y="1828800"/>
            <a:ext cx="52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nit 7: Fractions and Their Uses; Chance and Prob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80880" y="2819520"/>
          <a:ext cx="6019920" cy="6095880"/>
        </p:xfrm>
        <a:graphic>
          <a:graphicData uri="http://schemas.openxmlformats.org/drawingml/2006/table">
            <a:tbl>
              <a:tblPr/>
              <a:tblGrid>
                <a:gridCol w="2057400"/>
                <a:gridCol w="2286000"/>
                <a:gridCol w="838440"/>
                <a:gridCol w="83808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action Re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D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action Re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-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B.1.2.2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6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E.1.2.2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6.S.6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7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 3, 4,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3.2.3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6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B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7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E.1.2.2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6.S.6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7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 3,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3.2.3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6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B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B.1.2.2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G.3.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7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B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B.2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5.G.5.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3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6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 4,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3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6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icturing Frac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3.2.3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6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B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C.3.2.2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5.G.5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7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1.2.4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6.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ny Names for Frac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3.2.3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6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B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7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1.2.4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6.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action Name Collection Box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3.2.3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6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1.2.4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6.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C.3.2.2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5.G.5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7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85800" y="1828800"/>
            <a:ext cx="52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nit 7: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0880" y="2819520"/>
          <a:ext cx="6019920" cy="3413160"/>
        </p:xfrm>
        <a:graphic>
          <a:graphicData uri="http://schemas.openxmlformats.org/drawingml/2006/table">
            <a:tbl>
              <a:tblPr/>
              <a:tblGrid>
                <a:gridCol w="1828800"/>
                <a:gridCol w="2514600"/>
                <a:gridCol w="838440"/>
                <a:gridCol w="83808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1.2.2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6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dering Frac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3.2.3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6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action Proble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1.2.4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6.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B.2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5.G.5.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7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1.2.2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6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7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-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unting With Frac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1.2.2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6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7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1.2.4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6.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7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B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B.2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5.G.5.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7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685800" y="1828800"/>
            <a:ext cx="52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nit 8: Perimeter and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914400" y="2819520"/>
          <a:ext cx="6019920" cy="6095880"/>
        </p:xfrm>
        <a:graphic>
          <a:graphicData uri="http://schemas.openxmlformats.org/drawingml/2006/table">
            <a:tbl>
              <a:tblPr/>
              <a:tblGrid>
                <a:gridCol w="2209680"/>
                <a:gridCol w="2133720"/>
                <a:gridCol w="838080"/>
                <a:gridCol w="838440"/>
              </a:tblGrid>
              <a:tr h="60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C.1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G.5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E.1.2.2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6.S.6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E.2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3.A.6.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8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1.2.4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6.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B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E.2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3.A.6.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8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 3-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C.3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6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ea of Polyg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E.2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3.A.6.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babilit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1.2.2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6.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E.1.2.2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6.S.6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E.2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3.A.6.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8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1.2.4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6.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E.2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3.A.6.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8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 3-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C.3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6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eas of Rectang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3.2.3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6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B.2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5.G.5.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c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B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3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6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E.2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3.A.6.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8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3.2.3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6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B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E.2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3.A.6.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8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3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6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B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E.2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3.A.6.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8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3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6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 2, 4,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3.2.3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6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685800" y="1828800"/>
            <a:ext cx="52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nit 9: Per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819520"/>
          <a:ext cx="6019920" cy="4572000"/>
        </p:xfrm>
        <a:graphic>
          <a:graphicData uri="http://schemas.openxmlformats.org/drawingml/2006/table">
            <a:tbl>
              <a:tblPr/>
              <a:tblGrid>
                <a:gridCol w="1981440"/>
                <a:gridCol w="2361960"/>
                <a:gridCol w="838440"/>
                <a:gridCol w="83808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1.2.4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6.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ny Names for Perc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5-2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B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C.2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3.G.3.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C.3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3.G.3.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9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1.2.4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6.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B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9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, 5,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3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6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C.2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3.G.3.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C.3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3.G.3.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9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 3, 4,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B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1.2.4(MA.4.A.6.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3.2.3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6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, 3, 5,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1.2.4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6.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C.2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3.G.3.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B.2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5.G.5.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 3,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1.2.4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6.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B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C.2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3.G.3.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9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1.2.4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6.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B.2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5.G.5.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C.2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3.G.3.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9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C.2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3.G.3.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9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685800" y="1828800"/>
            <a:ext cx="52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nit 10: Reflections and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80880" y="2819520"/>
          <a:ext cx="6019920" cy="4694040"/>
        </p:xfrm>
        <a:graphic>
          <a:graphicData uri="http://schemas.openxmlformats.org/drawingml/2006/table">
            <a:tbl>
              <a:tblPr/>
              <a:tblGrid>
                <a:gridCol w="2286000"/>
                <a:gridCol w="2133720"/>
                <a:gridCol w="762120"/>
                <a:gridCol w="83808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B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C.2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3.G.3.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E.1.2.2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6.S.6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1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 3,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3.2.3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6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E.1.2.2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6.S.6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idential 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1.2.4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6.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C.2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3.G.3.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C.3.2.2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5.G.5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1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-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B.3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C.2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3.G.3.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E.2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3.A.6.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1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B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C.2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3.G.3.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E.1.2.2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6.S.6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10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 3,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1.2.4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6.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C.2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3.G.3.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C.3.2.2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5.G.5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1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, 3,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B.3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C.2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3.G.3.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E.2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3.A.6.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10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B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B.3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C.3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G.3.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1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 3,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685800" y="1828800"/>
            <a:ext cx="52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nit 11: Shapes, Weight, Volume and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80880" y="2819520"/>
          <a:ext cx="6019920" cy="5029200"/>
        </p:xfrm>
        <a:graphic>
          <a:graphicData uri="http://schemas.openxmlformats.org/drawingml/2006/table">
            <a:tbl>
              <a:tblPr/>
              <a:tblGrid>
                <a:gridCol w="1981440"/>
                <a:gridCol w="2361960"/>
                <a:gridCol w="762120"/>
                <a:gridCol w="914400"/>
              </a:tblGrid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B.3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timating Weights in Grams and Kilogra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C.2.2.2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G.5.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D.2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4.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D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1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 3, 4,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C.1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G.5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ometric So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C.1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G.5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deling a Rectangular Pris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4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5.G.5.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C.2.2.2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5.G.5.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C.1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G.5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1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3.2.3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6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C.2.2.2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G.5.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D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1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a, 3, 4,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4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5.G.5.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C.2.2.2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G.5.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C.1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G.5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11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B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be Stacking Problem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B.2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5.G.5.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B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E.2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3.A.6.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1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 3-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3.2.3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6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4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5.G.5.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C.1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G.5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1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B.2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5.G.5.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verting Measu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685800" y="1828800"/>
            <a:ext cx="52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nit 11: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80880" y="2819520"/>
          <a:ext cx="6019920" cy="1218960"/>
        </p:xfrm>
        <a:graphic>
          <a:graphicData uri="http://schemas.openxmlformats.org/drawingml/2006/table">
            <a:tbl>
              <a:tblPr/>
              <a:tblGrid>
                <a:gridCol w="1828800"/>
                <a:gridCol w="2514600"/>
                <a:gridCol w="838440"/>
                <a:gridCol w="83808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B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B.2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5.G.5.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E.2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3.A.6.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11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 3-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4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5.G.5.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3.2.3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6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B.1.2.2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G.3.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1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685800" y="1828800"/>
            <a:ext cx="52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nit 12: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80880" y="2895480"/>
          <a:ext cx="6019920" cy="4754520"/>
        </p:xfrm>
        <a:graphic>
          <a:graphicData uri="http://schemas.openxmlformats.org/drawingml/2006/table">
            <a:tbl>
              <a:tblPr/>
              <a:tblGrid>
                <a:gridCol w="1981440"/>
                <a:gridCol w="2438280"/>
                <a:gridCol w="762120"/>
                <a:gridCol w="838080"/>
              </a:tblGrid>
              <a:tr h="61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4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5.G.5.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B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C.3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G.3.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1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, 3, 5,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D.1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4.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te Tab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B.2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D.1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4.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1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 3,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4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5.G.5.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B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C.3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G.3.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1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, 3, 5,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4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5.G.5.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B.2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5.G.5.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D.1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4.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12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 3,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3.2.3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6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B.2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5.G.5.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D.1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4.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1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3, 5,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B.2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5.G.5.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D.1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4.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12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 3,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A.3.2.3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6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B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.D.1.2.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A.4.A.4.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h Boxes 1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3, 5,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18:48:40Z</dcterms:created>
  <dc:creator>Guest</dc:creator>
  <dc:description/>
  <dc:language>en-US</dc:language>
  <cp:lastModifiedBy>Todd Collins</cp:lastModifiedBy>
  <dcterms:modified xsi:type="dcterms:W3CDTF">2009-07-08T06:17:00Z</dcterms:modified>
  <cp:revision>19</cp:revision>
  <dc:subject/>
  <dc:title>Slide 1</dc:title>
</cp:coreProperties>
</file>